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6B5-E808-45F2-BDA7-2BAD2069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88A-BBC6-48ED-BFBA-89567AB7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E81-EBEA-43FF-B1F6-CE067C8C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B7D-53FF-4368-A4C8-A3D80482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6B4E-F87D-4328-9624-2B3A9145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8C1D-DC7B-4060-8859-12C88AC6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8D38-20C1-4A82-B022-21659A34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6C2C-6B97-4936-B5E4-CF8D889D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662E-79BD-4BE0-8555-13106911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73D7-3D86-44A0-B24F-E94E8859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7CB2-1BD7-4273-A01D-D8F37B91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39D-F5EC-4A92-BE02-45BE6595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E509-E5F8-471C-ADE5-95F21F5B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92AA-6824-4A20-BF56-E697FBC3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E32F-C518-48A0-A5BC-03868D72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0F21-35ED-437B-9A2F-1021EA0E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5CFF-2C25-4CA3-B570-33A7B89E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438A8-EC3A-42CD-B475-8E515593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21A81-2C84-442F-BDC4-E05F0D64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B0399-D379-48E3-99D0-BBB51D17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A3785-C5B8-4B24-8235-EC59EA0F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3D468-E400-4A47-BEF6-C50AFFA2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32CD-328C-487C-BB19-375A8814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AF864-26B4-4C65-ABC0-5AA1EF61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FBA3D-AC9E-4264-9C7B-AC02FF2A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8D2DD-E502-4197-98E0-53EF16CA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B8A7E-C219-4615-ADB7-27B77C3E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24B96-6CCE-4283-90E5-6799FCD5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E6C71-D587-4452-A7DE-E1DCFF97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85B7A-36D7-4FE9-9FE5-0072AB1B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F6124-981A-400C-94ED-857ADAF3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BE277-9E51-4C9F-9014-B9B82FB1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33F9E-9818-4DC2-BE56-FB900E11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664-A906-4706-834F-0E1D3579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84AF5-A334-4243-8C86-6141D14C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FA77E-0A2C-4C84-87D0-77A1AE4B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C7470-2B7E-41BE-992B-14BC4FC1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9BB8C-9B16-4392-98E9-28BA9C58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9CD9A-6CFA-47FD-96C5-90E38748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E4783-E9D0-40B0-806C-771211AD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E4B95-F542-4997-89C8-3D1EE0FC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D5FDD-E609-4EBA-B620-9953F55E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ECF2A-EF4D-47BA-99A7-7E204838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D7D4F-C785-4953-BAC6-5B4EBBAA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B36-00F5-406B-BF0A-E2F69759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7E9D1-F7DF-4322-9942-9DBB231B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438B8-91DB-430D-895A-DFB48DFC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0ACF4-29C6-4707-AC35-76850D26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AA29D-6A0E-4C0C-9D25-94DE4078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57A37-DDB8-4D4B-BB25-03769039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5EBD1-60A4-4589-A418-406394FF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955D4-2180-4AA8-8F81-A8FA6B59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7D9CC-AD0F-4872-AFAA-F528145A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F3BC4-1E8F-439E-B5AF-2DFA73B6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A768C-01B6-474A-81E5-519BA6AA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5DE-ADEA-4C65-B442-3F609857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7AD7A-A285-4E43-934B-75EC2B6B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89F-A664-486F-9DEF-EF28F65B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D8F-50A5-44BA-AC71-7FDCEB3E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09E-FA0A-47F6-ABFF-95789A92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0834-339D-43A6-A1CC-6927D3083D7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E61B-A0A8-4920-873D-7BEF0D270DB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1BED-D704-41B4-A734-F40A206993F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DFC5-843A-4769-B57F-1DC3CBDE22C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A99D-E0BC-4BE7-9E19-7DFEF3F4612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22" name="УЛЫБКА.wmv" descr=""/>
          <p:cNvPicPr/>
          <p:nvPr/>
        </p:nvPicPr>
        <p:blipFill>
          <a:blip r:embed="rId1"/>
          <a:stretch/>
        </p:blipFill>
        <p:spPr>
          <a:xfrm>
            <a:off x="0" y="0"/>
            <a:ext cx="871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8" name="Object 2"/>
          <p:cNvGraphicFramePr/>
          <p:nvPr/>
        </p:nvGraphicFramePr>
        <p:xfrm>
          <a:off x="2309760" y="90972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9760" y="90972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Рисунок 4" descr="5fc370fb131f.png"/>
          <p:cNvPicPr/>
          <p:nvPr/>
        </p:nvPicPr>
        <p:blipFill>
          <a:blip r:embed="rId1"/>
          <a:stretch/>
        </p:blipFill>
        <p:spPr>
          <a:xfrm>
            <a:off x="571680" y="1214280"/>
            <a:ext cx="1949400" cy="14335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3" descr="4331d5c58582.png"/>
          <p:cNvPicPr/>
          <p:nvPr/>
        </p:nvPicPr>
        <p:blipFill>
          <a:blip r:embed="rId2"/>
          <a:stretch/>
        </p:blipFill>
        <p:spPr>
          <a:xfrm>
            <a:off x="5643720" y="1571760"/>
            <a:ext cx="2716200" cy="20286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6" descr="d17b9d9a0090.png"/>
          <p:cNvPicPr/>
          <p:nvPr/>
        </p:nvPicPr>
        <p:blipFill>
          <a:blip r:embed="rId3"/>
          <a:stretch/>
        </p:blipFill>
        <p:spPr>
          <a:xfrm>
            <a:off x="2643120" y="3714840"/>
            <a:ext cx="1762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комство с новой буквой и звук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ение слогов и сл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ение предлож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ение текс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та  суффикс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рямоугольник 1" descr=""/>
          <p:cNvPicPr/>
          <p:nvPr/>
        </p:nvPicPr>
        <p:blipFill>
          <a:blip r:embed="rId1"/>
          <a:stretch/>
        </p:blipFill>
        <p:spPr>
          <a:xfrm>
            <a:off x="433440" y="1920960"/>
            <a:ext cx="8429400" cy="454032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9" descr="51ef1cd3c5bcc6c2f6b656ea70f7c910.jpg"/>
          <p:cNvPicPr/>
          <p:nvPr/>
        </p:nvPicPr>
        <p:blipFill>
          <a:blip r:embed="rId2"/>
          <a:stretch/>
        </p:blipFill>
        <p:spPr>
          <a:xfrm>
            <a:off x="6643800" y="4857840"/>
            <a:ext cx="2014560" cy="17953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" descr="v.png"/>
          <p:cNvPicPr/>
          <p:nvPr/>
        </p:nvPicPr>
        <p:blipFill>
          <a:blip r:embed="rId3"/>
          <a:stretch/>
        </p:blipFill>
        <p:spPr>
          <a:xfrm>
            <a:off x="6143760" y="428760"/>
            <a:ext cx="2022480" cy="2214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4"/>
          <a:srcRect l="5095" t="3795" r="13464" b="10125"/>
          <a:stretch/>
        </p:blipFill>
        <p:spPr>
          <a:xfrm>
            <a:off x="642960" y="428760"/>
            <a:ext cx="1612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Овал 1"/>
          <p:cNvSpPr/>
          <p:nvPr/>
        </p:nvSpPr>
        <p:spPr>
          <a:xfrm>
            <a:off x="3357720" y="1928880"/>
            <a:ext cx="1928520" cy="171432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Прямоугольник 2" descr=""/>
          <p:cNvPicPr/>
          <p:nvPr/>
        </p:nvPicPr>
        <p:blipFill>
          <a:blip r:embed="rId1"/>
          <a:stretch/>
        </p:blipFill>
        <p:spPr>
          <a:xfrm>
            <a:off x="3524400" y="2041560"/>
            <a:ext cx="1706400" cy="136044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ая соединительная линия 4"/>
          <p:cNvSpPr/>
          <p:nvPr/>
        </p:nvSpPr>
        <p:spPr>
          <a:xfrm>
            <a:off x="4642560" y="3571920"/>
            <a:ext cx="357480" cy="71424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5"/>
          <p:cNvSpPr/>
          <p:nvPr/>
        </p:nvSpPr>
        <p:spPr>
          <a:xfrm flipH="1">
            <a:off x="3786120" y="3643200"/>
            <a:ext cx="285840" cy="71460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7"/>
          <p:cNvSpPr/>
          <p:nvPr/>
        </p:nvSpPr>
        <p:spPr>
          <a:xfrm>
            <a:off x="4857840" y="4286160"/>
            <a:ext cx="1000080" cy="28584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8"/>
          <p:cNvSpPr/>
          <p:nvPr/>
        </p:nvSpPr>
        <p:spPr>
          <a:xfrm>
            <a:off x="2928960" y="4286160"/>
            <a:ext cx="1000080" cy="285840"/>
          </a:xfrm>
          <a:prstGeom prst="ellipse">
            <a:avLst/>
          </a:prstGeom>
          <a:solidFill>
            <a:srgbClr val="2b2b85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D:\больная\45\школа\c31a69c60e14.png"/>
          <p:cNvPicPr/>
          <p:nvPr/>
        </p:nvPicPr>
        <p:blipFill>
          <a:blip r:embed="rId2"/>
          <a:stretch/>
        </p:blipFill>
        <p:spPr>
          <a:xfrm>
            <a:off x="3143160" y="571680"/>
            <a:ext cx="235764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Прямоугольник 1" descr=""/>
          <p:cNvPicPr/>
          <p:nvPr/>
        </p:nvPicPr>
        <p:blipFill>
          <a:blip r:embed="rId1"/>
          <a:stretch/>
        </p:blipFill>
        <p:spPr>
          <a:xfrm>
            <a:off x="109440" y="1390680"/>
            <a:ext cx="811368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Прямоугольник 1" descr=""/>
          <p:cNvPicPr/>
          <p:nvPr/>
        </p:nvPicPr>
        <p:blipFill>
          <a:blip r:embed="rId1"/>
          <a:stretch/>
        </p:blipFill>
        <p:spPr>
          <a:xfrm>
            <a:off x="493560" y="1500120"/>
            <a:ext cx="67248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комство с новой буквой и звук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ение слогов и сл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ение предлож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ение текс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та  суффикс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5-04T17:45:57Z</dcterms:modified>
  <cp:revision>24</cp:revision>
  <dc:subject/>
  <dc:title>Слайд 1</dc:title>
</cp:coreProperties>
</file>