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118-B0C3-4637-BD8E-88E20870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BE9-97E2-414A-86B8-2DB0FAE5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59C-BEE6-4BC3-9CB2-77DE7613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7EC-FA41-4F9D-BACC-9FC5F020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35CD-833D-42B7-8CFE-50557454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D4AA-5791-4706-B1B6-A4358BEB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3576-B79F-47CB-A466-FFFBB985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9509-CE87-4961-B7A7-03EDAF40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4206-8D5F-4120-B05B-E0387ACF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395B-A737-47A5-B550-B2AA3AF3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29AA-E886-46E7-A072-E23D9800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B1F-9385-4831-A0DC-AC26CCBA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809A-5573-40BE-BC49-5CF2A5CF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9033-613D-4194-80D7-0AB49051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CFB2-0BCB-4FBE-BD81-FA127416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077E-F58D-40ED-B849-CA92D0DD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E595-C8F4-4D3D-B24F-B2669A40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BE7BC-1D8A-4635-BF87-CD79659F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3F767-B18D-4D1C-B6E6-045E86E7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DDA09-C060-4603-B548-623153BC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2844C-491C-4A54-8BD9-AB4E9B96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4FD7E-D1B1-40C0-AD8D-0D5BD61D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8BC-CFFE-400D-8A71-4FE14773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84FF7-44F0-4AA3-A82C-96225F63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24EAB-6FFD-42EA-B752-337F7EAE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8E752-3405-4F3B-868D-FF217DA3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D0979-9788-4CED-907C-4B6F004D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56E71-0797-4388-8365-E7CA87F8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D5258-0F15-4632-80F4-6C34DF1D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FE399-CEEE-45A0-BC25-AC807BCB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397AC-0AEF-4B26-9831-7829B4E5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5B2F-379C-4033-A43D-646DDFAE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B288F-AD03-45C4-9A9D-8683B720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578-9180-44F0-8E49-C4756411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3ACC9-F42A-4CD8-8B4D-2CA88500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2F6C5-FD54-47B4-9246-EA0D6960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1C5D8-3F07-4AC8-A018-202FC621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17634-86EC-4E77-9590-6C2A63EA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88DC5-FBE6-49F3-AF12-6071A873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FB01A-295D-4EAA-9062-77B661F4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1DD38-E02C-4581-9A06-421C01FD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32DD9-CD7E-46A8-AF15-09436035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1AE8A-E5AB-42E6-9758-3A75F7F6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5A5C2-8851-4020-8BFC-1E468BF4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BD5-3863-4961-9DC8-26714FF9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652CA-F1B5-43DB-A508-5BACF412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08A60-B9B5-4905-AFF8-DCDE5086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AADFE-B5EE-4EEA-9028-F1718664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05597-0EF1-4160-A55B-839B0AA4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64D2A-017E-4A34-B42B-FD77D313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EED5E-53DD-4CFE-9CCA-D1452FC4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27766-4DB0-4ABE-B211-C239B468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C3FBD-4947-4E90-9CBB-A6E733EB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2ADA6-EEF0-43B5-B9E6-8152E62B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07820-BDD6-48D9-ABCB-E05BAF25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7D6-D46E-4047-8D8B-E4991762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39917-87A2-4170-BDE3-08C295DE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1589-0035-4560-AA82-E230F2FA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140-4643-4065-BF57-8E59F381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ACB-3F88-460C-BE56-0E20C6D5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3314-A6CD-4BB3-80F6-0C73769F145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83DF-AB87-457C-8B03-6B6F1E6E312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2E86-5174-4E45-A5E3-5BE0F333093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5ADF-FC3A-4DE5-B4F7-71DE4DA2771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ADBE-2A6C-4E29-9F6A-390A09E1126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22" name="УЛЫБКА.wmv" descr=""/>
          <p:cNvPicPr/>
          <p:nvPr/>
        </p:nvPicPr>
        <p:blipFill>
          <a:blip r:embed="rId1"/>
          <a:stretch/>
        </p:blipFill>
        <p:spPr>
          <a:xfrm>
            <a:off x="0" y="0"/>
            <a:ext cx="871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8" name="Object 2"/>
          <p:cNvGraphicFramePr/>
          <p:nvPr/>
        </p:nvGraphicFramePr>
        <p:xfrm>
          <a:off x="2309760" y="90972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9760" y="90972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Рисунок 4" descr="5fc370fb131f.png"/>
          <p:cNvPicPr/>
          <p:nvPr/>
        </p:nvPicPr>
        <p:blipFill>
          <a:blip r:embed="rId1"/>
          <a:stretch/>
        </p:blipFill>
        <p:spPr>
          <a:xfrm>
            <a:off x="571680" y="1214280"/>
            <a:ext cx="1949400" cy="14335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" descr="4331d5c58582.png"/>
          <p:cNvPicPr/>
          <p:nvPr/>
        </p:nvPicPr>
        <p:blipFill>
          <a:blip r:embed="rId2"/>
          <a:stretch/>
        </p:blipFill>
        <p:spPr>
          <a:xfrm>
            <a:off x="5643720" y="1571760"/>
            <a:ext cx="2716200" cy="20286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6" descr="d17b9d9a0090.png"/>
          <p:cNvPicPr/>
          <p:nvPr/>
        </p:nvPicPr>
        <p:blipFill>
          <a:blip r:embed="rId3"/>
          <a:stretch/>
        </p:blipFill>
        <p:spPr>
          <a:xfrm>
            <a:off x="2643120" y="3714840"/>
            <a:ext cx="1762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комство с новой буквой и звук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ение слогов и сл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ение предлож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ение тек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та  суффикс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1" descr=""/>
          <p:cNvPicPr/>
          <p:nvPr/>
        </p:nvPicPr>
        <p:blipFill>
          <a:blip r:embed="rId1"/>
          <a:stretch/>
        </p:blipFill>
        <p:spPr>
          <a:xfrm>
            <a:off x="433440" y="1920960"/>
            <a:ext cx="8429400" cy="454032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9" descr="51ef1cd3c5bcc6c2f6b656ea70f7c910.jpg"/>
          <p:cNvPicPr/>
          <p:nvPr/>
        </p:nvPicPr>
        <p:blipFill>
          <a:blip r:embed="rId2"/>
          <a:stretch/>
        </p:blipFill>
        <p:spPr>
          <a:xfrm>
            <a:off x="6643800" y="4857840"/>
            <a:ext cx="2014560" cy="17953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" descr="v.png"/>
          <p:cNvPicPr/>
          <p:nvPr/>
        </p:nvPicPr>
        <p:blipFill>
          <a:blip r:embed="rId3"/>
          <a:stretch/>
        </p:blipFill>
        <p:spPr>
          <a:xfrm>
            <a:off x="6143760" y="428760"/>
            <a:ext cx="2022480" cy="2214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4"/>
          <a:srcRect l="5095" t="3795" r="13464" b="10125"/>
          <a:stretch/>
        </p:blipFill>
        <p:spPr>
          <a:xfrm>
            <a:off x="642960" y="428760"/>
            <a:ext cx="1612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Овал 1"/>
          <p:cNvSpPr/>
          <p:nvPr/>
        </p:nvSpPr>
        <p:spPr>
          <a:xfrm>
            <a:off x="3357720" y="1928880"/>
            <a:ext cx="1928520" cy="171432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Прямоугольник 2" descr=""/>
          <p:cNvPicPr/>
          <p:nvPr/>
        </p:nvPicPr>
        <p:blipFill>
          <a:blip r:embed="rId1"/>
          <a:stretch/>
        </p:blipFill>
        <p:spPr>
          <a:xfrm>
            <a:off x="3524400" y="2041560"/>
            <a:ext cx="1706400" cy="136044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ая соединительная линия 4"/>
          <p:cNvSpPr/>
          <p:nvPr/>
        </p:nvSpPr>
        <p:spPr>
          <a:xfrm>
            <a:off x="4642560" y="3571920"/>
            <a:ext cx="357480" cy="71424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5"/>
          <p:cNvSpPr/>
          <p:nvPr/>
        </p:nvSpPr>
        <p:spPr>
          <a:xfrm flipH="1">
            <a:off x="3786120" y="3643200"/>
            <a:ext cx="285840" cy="71460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7"/>
          <p:cNvSpPr/>
          <p:nvPr/>
        </p:nvSpPr>
        <p:spPr>
          <a:xfrm>
            <a:off x="4857840" y="4286160"/>
            <a:ext cx="1000080" cy="28584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8"/>
          <p:cNvSpPr/>
          <p:nvPr/>
        </p:nvSpPr>
        <p:spPr>
          <a:xfrm>
            <a:off x="2928960" y="4286160"/>
            <a:ext cx="1000080" cy="285840"/>
          </a:xfrm>
          <a:prstGeom prst="ellipse">
            <a:avLst/>
          </a:prstGeom>
          <a:solidFill>
            <a:srgbClr val="2b2b85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D:\больная\45\школа\c31a69c60e14.png"/>
          <p:cNvPicPr/>
          <p:nvPr/>
        </p:nvPicPr>
        <p:blipFill>
          <a:blip r:embed="rId2"/>
          <a:stretch/>
        </p:blipFill>
        <p:spPr>
          <a:xfrm>
            <a:off x="3143160" y="571680"/>
            <a:ext cx="235764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Прямоугольник 1" descr=""/>
          <p:cNvPicPr/>
          <p:nvPr/>
        </p:nvPicPr>
        <p:blipFill>
          <a:blip r:embed="rId1"/>
          <a:stretch/>
        </p:blipFill>
        <p:spPr>
          <a:xfrm>
            <a:off x="109440" y="1390680"/>
            <a:ext cx="811368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Прямоугольник 1" descr=""/>
          <p:cNvPicPr/>
          <p:nvPr/>
        </p:nvPicPr>
        <p:blipFill>
          <a:blip r:embed="rId1"/>
          <a:stretch/>
        </p:blipFill>
        <p:spPr>
          <a:xfrm>
            <a:off x="493560" y="1500120"/>
            <a:ext cx="67248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комство с новой буквой и звук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ение слогов и сл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ение предлож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ение тек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та  суффикс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5-04T17:45:57Z</dcterms:modified>
  <cp:revision>24</cp:revision>
  <dc:subject/>
  <dc:title>Слайд 1</dc:title>
</cp:coreProperties>
</file>