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9A3-D7F8-4425-AD7F-014C9992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345C-929A-4E02-8250-F3BCFAE2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229-641E-4D65-A517-26695A0A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7B4-4026-4A89-BFB3-E7EC3245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7B8C9-5CA2-4305-A41E-B469307633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F1A16-2A12-4F5A-B994-8A899CEC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59A95-3ACC-45FD-A67F-BC8818DF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D1321-ED14-4097-A97C-7CA0FB95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0AF23-9DA7-4F7C-AC18-67E39886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520" y="504720"/>
            <a:ext cx="4953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799C5-27BD-4FB3-A40E-BB603E93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1C489-1701-46CF-BAE1-DD04A63A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0BC-A411-4CC4-8149-B3E4B67E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B00A0-99BE-4786-83D3-D236C3AD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BC5DA-5BF6-4891-ABDA-9654C7FB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42E6A-0722-47BC-9EAF-3F4A75BE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CC43E-45D2-4E2E-A0F4-6CCEF568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6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79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6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79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E9BAB-5393-4AD5-B9C5-108463B89C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429-9F04-49FC-A4C4-311BB3EF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0E1-D849-4A4D-9ED5-860D8040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016-583C-47D2-9BEB-D5164F50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504720"/>
            <a:ext cx="4953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E1E-D669-4D53-B43B-4250CBA1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1D8-A6E7-4F39-8ECE-C8CB8970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79B-BE7B-4E09-A680-60164BF8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F2C-CA88-4735-B92A-C991A031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3"/>
          <p:cNvSpPr/>
          <p:nvPr/>
        </p:nvSpPr>
        <p:spPr>
          <a:xfrm>
            <a:off x="200160" y="476280"/>
            <a:ext cx="8610480" cy="685800"/>
          </a:xfrm>
          <a:prstGeom prst="roundRect">
            <a:avLst>
              <a:gd name="adj" fmla="val 22292"/>
            </a:avLst>
          </a:prstGeom>
          <a:gradFill rotWithShape="0">
            <a:gsLst>
              <a:gs pos="0">
                <a:srgbClr val="000409">
                  <a:alpha val="60392"/>
                </a:srgbClr>
              </a:gs>
              <a:gs pos="50000">
                <a:srgbClr val="023888">
                  <a:alpha val="60392"/>
                </a:srgbClr>
              </a:gs>
              <a:gs pos="100000">
                <a:srgbClr val="000409">
                  <a:alpha val="6039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2"/>
          <p:cNvSpPr/>
          <p:nvPr/>
        </p:nvSpPr>
        <p:spPr>
          <a:xfrm>
            <a:off x="298440" y="1341360"/>
            <a:ext cx="8540640" cy="5211720"/>
          </a:xfrm>
          <a:prstGeom prst="roundRect">
            <a:avLst>
              <a:gd name="adj" fmla="val 3699"/>
            </a:avLst>
          </a:prstGeom>
          <a:gradFill rotWithShape="0">
            <a:gsLst>
              <a:gs pos="0">
                <a:srgbClr val="000409">
                  <a:alpha val="80000"/>
                </a:srgbClr>
              </a:gs>
              <a:gs pos="50000">
                <a:srgbClr val="023888">
                  <a:alpha val="79215"/>
                </a:srgbClr>
              </a:gs>
              <a:gs pos="100000">
                <a:srgbClr val="000409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1"/>
          <p:cNvSpPr/>
          <p:nvPr/>
        </p:nvSpPr>
        <p:spPr>
          <a:xfrm flipH="1">
            <a:off x="0" y="8031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7" descr="bar_1"/>
          <p:cNvPicPr/>
          <p:nvPr/>
        </p:nvPicPr>
        <p:blipFill>
          <a:blip r:embed="rId3"/>
          <a:stretch/>
        </p:blipFill>
        <p:spPr>
          <a:xfrm>
            <a:off x="0" y="304920"/>
            <a:ext cx="5715000" cy="106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805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68B5-C838-4BC8-A2C6-A84B3DACE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4" descr="bar_1"/>
          <p:cNvPicPr/>
          <p:nvPr/>
        </p:nvPicPr>
        <p:blipFill>
          <a:blip r:embed="rId3"/>
          <a:stretch/>
        </p:blipFill>
        <p:spPr>
          <a:xfrm>
            <a:off x="0" y="1981080"/>
            <a:ext cx="701028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0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23888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8123-61E6-41DC-8F17-62E9F37B97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0" y="0"/>
            <a:ext cx="1881360" cy="1744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sp>
        <p:nvSpPr>
          <p:cNvPr id="88" name="WordArt 12"/>
          <p:cNvSpPr txBox="1"/>
          <p:nvPr/>
        </p:nvSpPr>
        <p:spPr>
          <a:xfrm>
            <a:off x="0" y="2205000"/>
            <a:ext cx="665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023888">
                      <a:alpha val="50000"/>
                    </a:srgbClr>
                  </a:outerShdw>
                </a:effectLst>
                <a:latin typeface="Arial"/>
              </a:rPr>
              <a:t>«Туберкулез и его профилактика»</a:t>
            </a:r>
            <a:endParaRPr b="0" lang="en-US" sz="1800" spc="1" strike="noStrike">
              <a:ln w="64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02388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2195640" y="0"/>
            <a:ext cx="66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1f53"/>
                </a:solidFill>
                <a:latin typeface="Arial"/>
              </a:rPr>
              <a:t>ФГУЗ  «Центр гигиены и эпидемиологии </a:t>
            </a:r>
            <a:br>
              <a:rPr sz="3600"/>
            </a:br>
            <a:r>
              <a:rPr b="1" lang="ru-RU" sz="3600" spc="-1" strike="noStrike">
                <a:solidFill>
                  <a:srgbClr val="3f1f53"/>
                </a:solidFill>
                <a:latin typeface="Arial"/>
              </a:rPr>
              <a:t>в Тюменской области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3"/>
          <p:cNvSpPr/>
          <p:nvPr/>
        </p:nvSpPr>
        <p:spPr>
          <a:xfrm>
            <a:off x="38088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Меры профилактики туберкулеза</a:t>
            </a:r>
            <a:r>
              <a:rPr b="1" lang="ru-RU" sz="2400" spc="-1" strike="noStrike">
                <a:solidFill>
                  <a:srgbClr val="02388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5"/>
          <p:cNvSpPr/>
          <p:nvPr/>
        </p:nvSpPr>
        <p:spPr>
          <a:xfrm>
            <a:off x="250920" y="1196280"/>
            <a:ext cx="856908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c3300"/>
                </a:solidFill>
                <a:uFillTx/>
                <a:latin typeface="Arial"/>
              </a:rPr>
              <a:t>1. Здоровый образ жизни:</a:t>
            </a:r>
            <a:br>
              <a:rPr sz="22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авильное питание (достаточное употребление в пищу мяса, молочных продуктов, овощей и фруктов)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регулярная физическая активность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лноценный отдых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тказ от курения, алкоголя, наркотиков.</a:t>
            </a:r>
            <a:br>
              <a:rPr sz="2000"/>
            </a:br>
            <a:r>
              <a:rPr b="1" lang="ru-RU" sz="2200" spc="-1" strike="noStrike" u="sng">
                <a:solidFill>
                  <a:srgbClr val="cc3300"/>
                </a:solidFill>
                <a:uFillTx/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 u="sng">
                <a:solidFill>
                  <a:srgbClr val="cc3300"/>
                </a:solidFill>
                <a:uFillTx/>
                <a:latin typeface="Arial"/>
              </a:rPr>
              <a:t>Соблюдение правил личной гигиены</a:t>
            </a:r>
            <a:r>
              <a:rPr b="0" lang="ru-RU" sz="2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мытье рук, посуды с использованием моющих средств и проточной воды), влажная уборка и проветривание жилых помещений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язательная термическая обработка мяса и моло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ьзование индивидуальными гигиеническими средствами и посуды.</a:t>
            </a:r>
            <a:br>
              <a:rPr sz="2000"/>
            </a:br>
            <a:r>
              <a:rPr b="0" lang="ru-RU" sz="2200" spc="-1" strike="noStrike" u="sng">
                <a:solidFill>
                  <a:srgbClr val="cc3300"/>
                </a:solidFill>
                <a:uFillTx/>
                <a:latin typeface="Arial"/>
              </a:rPr>
              <a:t>3. </a:t>
            </a:r>
            <a:r>
              <a:rPr b="1" lang="ru-RU" sz="2200" spc="-1" strike="noStrike" u="sng">
                <a:solidFill>
                  <a:srgbClr val="cc3300"/>
                </a:solidFill>
                <a:uFillTx/>
                <a:latin typeface="Arial"/>
              </a:rPr>
              <a:t>Обязательная вакцинация БЦЖ при рождении и ревакцинация в 6-7 лет.</a:t>
            </a:r>
            <a:br>
              <a:rPr sz="2200"/>
            </a:br>
            <a:r>
              <a:rPr b="1" lang="ru-RU" sz="2200" spc="-1" strike="noStrike" u="sng">
                <a:solidFill>
                  <a:srgbClr val="cc3300"/>
                </a:solidFill>
                <a:uFillTx/>
                <a:latin typeface="Arial"/>
              </a:rPr>
              <a:t>4. Своевременная диагностика туберкулеза и завершение полного курса лечени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7"/>
          <p:cNvSpPr txBox="1"/>
          <p:nvPr/>
        </p:nvSpPr>
        <p:spPr>
          <a:xfrm>
            <a:off x="250920" y="2209680"/>
            <a:ext cx="61214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solidFill>
                  <a:srgbClr val="0066cc">
                    <a:alpha val="93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 </a:t>
            </a:r>
            <a:endParaRPr b="0" lang="en-US" sz="5400" spc="1" strike="noStrike">
              <a:ln cap="rnd" w="1908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solidFill>
                <a:srgbClr val="0066cc">
                  <a:alpha val="93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3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0" y="0"/>
            <a:ext cx="1881360" cy="191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582300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419640" y="1557360"/>
            <a:ext cx="54734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год на Земле миллионы людей погибают от туберкулеза, несмотря на то, что для лечения больных уже в течение нескольких десятилетий существуют эффективные лекарства. Чтобы привлечь внимание к тому, что на большей части нашей планеты туберкулез продолжает оставаться «убийцей № 1» среди всех инфекционных заболев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i-main-pic" descr="Картинка 16 из 2228"/>
          <p:cNvPicPr/>
          <p:nvPr/>
        </p:nvPicPr>
        <p:blipFill>
          <a:blip r:embed="rId2"/>
          <a:stretch/>
        </p:blipFill>
        <p:spPr>
          <a:xfrm>
            <a:off x="468360" y="1557360"/>
            <a:ext cx="3024000" cy="2938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55"/>
          <p:cNvSpPr/>
          <p:nvPr/>
        </p:nvSpPr>
        <p:spPr>
          <a:xfrm>
            <a:off x="324000" y="5445000"/>
            <a:ext cx="835164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Ежегодно 24 марта провод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Всемирный день борьбы с туберкулез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748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лнообразно протекающая хроническая инфекционная болезнь, характеризующаяся различной, но преимущественно легочной локализацией, полиморфизмом клинических проявлений, интоксикацией и аллергизацией организма. Наряду с легочным туберкулезом возможно развитие и внелегочных форм, поскольку туберкулез способен поражать все органы и ткани человеческого организма, исключая только ногти и волос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9" descr="tuberculosis"/>
          <p:cNvPicPr/>
          <p:nvPr/>
        </p:nvPicPr>
        <p:blipFill>
          <a:blip r:embed="rId1"/>
          <a:stretch/>
        </p:blipFill>
        <p:spPr>
          <a:xfrm>
            <a:off x="4427640" y="3068640"/>
            <a:ext cx="4321080" cy="3492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"/>
          <p:cNvSpPr/>
          <p:nvPr/>
        </p:nvSpPr>
        <p:spPr>
          <a:xfrm>
            <a:off x="395280" y="3645000"/>
            <a:ext cx="3889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0" y="2924280"/>
            <a:ext cx="442764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уберкулёз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– это инфекционное заболевание. Возбудителем его является микобактерия туберкулёза, которую называют палочкой Коха по имени ученого, открывшего этот возбудитель. Именно он открыл микобактерию, вызывающую болезнь и скромно назвал ее «палочкой Кох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отличие от других микробов, микобактерия туберкулеза чрезвычайно живуча: отлично себя чувствует и в земле, и в снегу, устойчива к воздействию спирта, кислоты и щелочи. Погибнуть она может лишь под длительным воздействием прямых солнечных лучей, высоких температур и хлорсодержащих веществ. Кроме легких, туберкулез может поражать различные органы и ткани человека: глаза, кости, кожу, мочеполовую систему, кишечник 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0" y="54936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уберкулез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(от лат. Tuberculum—бугоро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211280" y="1371600"/>
            <a:ext cx="4475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м источником является человек, больной активной формой туберкулеза с бактериовыделением, а также крупный рогатый скот больной туберкулезом (слюна, молоко, испражнени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0" y="549360"/>
            <a:ext cx="54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сточники туберкулезной инфекции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6" descr="5868_1"/>
          <p:cNvPicPr/>
          <p:nvPr/>
        </p:nvPicPr>
        <p:blipFill>
          <a:blip r:embed="rId1"/>
          <a:stretch/>
        </p:blipFill>
        <p:spPr>
          <a:xfrm>
            <a:off x="324000" y="1413000"/>
            <a:ext cx="3708360" cy="5111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C:\Documents and Settings\Администратор\Мои документы\Мои рисунки\111эмблема.jpg"/>
          <p:cNvPicPr/>
          <p:nvPr/>
        </p:nvPicPr>
        <p:blipFill>
          <a:blip r:embed="rId2"/>
          <a:stretch/>
        </p:blipFill>
        <p:spPr>
          <a:xfrm>
            <a:off x="8028000" y="582300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ути проникновения туберкулезной бактерии в организм:</a:t>
            </a:r>
            <a:endParaRPr b="1" lang="en-US" sz="20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03280" y="1267920"/>
            <a:ext cx="41403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душно-капельный (пылевые частицы высохшей мокроты из окружающей среды, мельчайшие частицы мокроты, капли слюны, выделяемые при кашле при разговор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иментарный (зараженное молоко и молочные продукт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ансплацентарный – внутриутробное заражение от больной матери к ребен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248"/>
          <p:cNvPicPr/>
          <p:nvPr/>
        </p:nvPicPr>
        <p:blipFill>
          <a:blip r:embed="rId1"/>
          <a:stretch/>
        </p:blipFill>
        <p:spPr>
          <a:xfrm>
            <a:off x="324000" y="1341360"/>
            <a:ext cx="4608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8"/>
          <p:cNvSpPr/>
          <p:nvPr/>
        </p:nvSpPr>
        <p:spPr>
          <a:xfrm>
            <a:off x="539640" y="2320920"/>
            <a:ext cx="2660760" cy="3240000"/>
          </a:xfrm>
          <a:custGeom>
            <a:avLst/>
            <a:gdLst>
              <a:gd name="textAreaLeft" fmla="*/ 129600 w 2660760"/>
              <a:gd name="textAreaRight" fmla="*/ 2531160 w 2660760"/>
              <a:gd name="textAreaTop" fmla="*/ 129600 h 3240000"/>
              <a:gd name="textAreaBottom" fmla="*/ 3110400 h 3240000"/>
            </a:gdLst>
            <a:ahLst/>
            <a:rect l="textAreaLeft" t="textAreaTop" r="textAreaRight" b="textAreaBottom"/>
            <a:pathLst>
              <a:path w="21600" h="26302">
                <a:moveTo>
                  <a:pt x="3600" y="0"/>
                </a:moveTo>
                <a:arcTo wR="3600" hR="3600" stAng="16200000" swAng="-5400000"/>
                <a:lnTo>
                  <a:pt x="0" y="22702"/>
                </a:lnTo>
                <a:arcTo wR="3600" hR="3600" stAng="10800000" swAng="-5400000"/>
                <a:lnTo>
                  <a:pt x="18000" y="263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63867"/>
              </a:gs>
              <a:gs pos="100000">
                <a:srgbClr val="2f7adf">
                  <a:alpha val="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5867280" y="2349360"/>
            <a:ext cx="2660760" cy="3240360"/>
          </a:xfrm>
          <a:custGeom>
            <a:avLst/>
            <a:gdLst>
              <a:gd name="textAreaLeft" fmla="*/ 129600 w 2660760"/>
              <a:gd name="textAreaRight" fmla="*/ 2531160 w 2660760"/>
              <a:gd name="textAreaTop" fmla="*/ 129600 h 3240360"/>
              <a:gd name="textAreaBottom" fmla="*/ 3110760 h 3240360"/>
            </a:gdLst>
            <a:ahLst/>
            <a:rect l="textAreaLeft" t="textAreaTop" r="textAreaRight" b="textAreaBottom"/>
            <a:pathLst>
              <a:path w="21600" h="26305">
                <a:moveTo>
                  <a:pt x="3600" y="0"/>
                </a:moveTo>
                <a:arcTo wR="3600" hR="3600" stAng="16200000" swAng="-5400000"/>
                <a:lnTo>
                  <a:pt x="0" y="22705"/>
                </a:lnTo>
                <a:arcTo wR="3600" hR="3600" stAng="10800000" swAng="-5400000"/>
                <a:lnTo>
                  <a:pt x="18000" y="263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63867"/>
              </a:gs>
              <a:gs pos="100000">
                <a:srgbClr val="2f7adf">
                  <a:alpha val="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012000" y="2565360"/>
            <a:ext cx="237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такт с больным активной формой туберкулеза, выделяющим микобактерии туберкулеза (большое значение имеет длительность и периодичность контактов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69840" y="3083040"/>
            <a:ext cx="1922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ояние защитных сил организма (ослабление иммуните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8"/>
          <p:cNvSpPr/>
          <p:nvPr/>
        </p:nvSpPr>
        <p:spPr>
          <a:xfrm>
            <a:off x="3409920" y="2333520"/>
            <a:ext cx="851040" cy="2214720"/>
          </a:xfrm>
          <a:prstGeom prst="pie">
            <a:avLst/>
          </a:prstGeom>
          <a:gradFill rotWithShape="0">
            <a:gsLst>
              <a:gs pos="0">
                <a:srgbClr val="8793ed"/>
              </a:gs>
              <a:gs pos="100000">
                <a:srgbClr val="d9ddf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 flipH="1">
            <a:off x="4733280" y="33019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 flipH="1">
            <a:off x="4738680" y="2349360"/>
            <a:ext cx="852480" cy="2141640"/>
          </a:xfrm>
          <a:prstGeom prst="pie">
            <a:avLst/>
          </a:pr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11"/>
          <p:cNvGrpSpPr/>
          <p:nvPr/>
        </p:nvGrpSpPr>
        <p:grpSpPr>
          <a:xfrm>
            <a:off x="539640" y="189000"/>
            <a:ext cx="8207280" cy="1870920"/>
            <a:chOff x="539640" y="189000"/>
            <a:chExt cx="8207280" cy="1870920"/>
          </a:xfrm>
        </p:grpSpPr>
        <p:grpSp>
          <p:nvGrpSpPr>
            <p:cNvPr id="114" name="Group 12"/>
            <p:cNvGrpSpPr/>
            <p:nvPr/>
          </p:nvGrpSpPr>
          <p:grpSpPr>
            <a:xfrm>
              <a:off x="539640" y="355680"/>
              <a:ext cx="8207280" cy="1704240"/>
              <a:chOff x="539640" y="355680"/>
              <a:chExt cx="8207280" cy="1704240"/>
            </a:xfrm>
          </p:grpSpPr>
          <p:sp>
            <p:nvSpPr>
              <p:cNvPr id="115" name="Oval 13"/>
              <p:cNvSpPr/>
              <p:nvPr/>
            </p:nvSpPr>
            <p:spPr>
              <a:xfrm>
                <a:off x="629280" y="410040"/>
                <a:ext cx="8117640" cy="1649880"/>
              </a:xfrm>
              <a:prstGeom prst="ellipse">
                <a:avLst/>
              </a:prstGeom>
              <a:gradFill rotWithShape="0">
                <a:gsLst>
                  <a:gs pos="0">
                    <a:srgbClr val="85d9f7"/>
                  </a:gs>
                  <a:gs pos="100000">
                    <a:srgbClr val="416a7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Oval 14"/>
              <p:cNvSpPr/>
              <p:nvPr/>
            </p:nvSpPr>
            <p:spPr>
              <a:xfrm>
                <a:off x="539640" y="355680"/>
                <a:ext cx="8117640" cy="1649520"/>
              </a:xfrm>
              <a:prstGeom prst="ellipse">
                <a:avLst/>
              </a:prstGeom>
              <a:gradFill rotWithShape="0">
                <a:gsLst>
                  <a:gs pos="0">
                    <a:srgbClr val="c9eefb"/>
                  </a:gs>
                  <a:gs pos="100000">
                    <a:srgbClr val="85d9f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Oval 15"/>
            <p:cNvSpPr/>
            <p:nvPr/>
          </p:nvSpPr>
          <p:spPr>
            <a:xfrm>
              <a:off x="926640" y="189000"/>
              <a:ext cx="7347960" cy="156744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6"/>
            <p:cNvSpPr/>
            <p:nvPr/>
          </p:nvSpPr>
          <p:spPr>
            <a:xfrm>
              <a:off x="1022400" y="198000"/>
              <a:ext cx="7169760" cy="152820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1096200" y="213120"/>
              <a:ext cx="6821640" cy="142776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8"/>
            <p:cNvSpPr/>
            <p:nvPr/>
          </p:nvSpPr>
          <p:spPr>
            <a:xfrm>
              <a:off x="1456920" y="244800"/>
              <a:ext cx="6004800" cy="115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Rectangle 27"/>
          <p:cNvSpPr/>
          <p:nvPr/>
        </p:nvSpPr>
        <p:spPr>
          <a:xfrm>
            <a:off x="2068200" y="455760"/>
            <a:ext cx="52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сновными факторами разви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олезни являю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582300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3"/>
          <p:cNvSpPr/>
          <p:nvPr/>
        </p:nvSpPr>
        <p:spPr>
          <a:xfrm>
            <a:off x="324000" y="1341360"/>
            <a:ext cx="5867280" cy="5256360"/>
          </a:xfrm>
          <a:prstGeom prst="rightArrow">
            <a:avLst>
              <a:gd name="adj1" fmla="val 79306"/>
              <a:gd name="adj2" fmla="val 27647"/>
            </a:avLst>
          </a:prstGeom>
          <a:gradFill rotWithShape="0">
            <a:gsLst>
              <a:gs pos="0">
                <a:srgbClr val="023888"/>
              </a:gs>
              <a:gs pos="100000">
                <a:srgbClr val="2f7a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554040" y="1946160"/>
            <a:ext cx="4162320" cy="495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76c2e"/>
              </a:gs>
              <a:gs pos="50000">
                <a:srgbClr val="5ab14b"/>
              </a:gs>
              <a:gs pos="100000">
                <a:srgbClr val="376c2e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благоприятные социальные 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кологические условия жизни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542880" y="2571840"/>
            <a:ext cx="4173480" cy="36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25990"/>
              </a:gs>
              <a:gs pos="50000">
                <a:srgbClr val="8793ed"/>
              </a:gs>
              <a:gs pos="100000">
                <a:srgbClr val="525990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полноценное питание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542880" y="3043080"/>
            <a:ext cx="4173480" cy="370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f621a"/>
              </a:gs>
              <a:gs pos="50000">
                <a:srgbClr val="eba22b"/>
              </a:gs>
              <a:gs pos="100000">
                <a:srgbClr val="8f621a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лкоголизм, курение, наркомания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539640" y="3500280"/>
            <a:ext cx="4176720" cy="370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48b5f"/>
              </a:gs>
              <a:gs pos="50000">
                <a:srgbClr val="f4e59c"/>
              </a:gs>
              <a:gs pos="100000">
                <a:srgbClr val="948b5f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именение гормональных препаратов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554040" y="3976560"/>
            <a:ext cx="4162320" cy="370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3608c"/>
              </a:gs>
              <a:gs pos="50000">
                <a:srgbClr val="f29ee6"/>
              </a:gs>
              <a:gs pos="100000">
                <a:srgbClr val="93608c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ессы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541440" y="4449600"/>
            <a:ext cx="4174920" cy="9954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18496"/>
              </a:gs>
              <a:gs pos="50000">
                <a:srgbClr val="85d9f7"/>
              </a:gs>
              <a:gs pos="100000">
                <a:srgbClr val="518496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личие сопутствующих заболева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сахарного диабета, язвенной болезн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желудка или 12-перстной кишки, хронически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болеваний легких и др.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6"/>
          <p:cNvSpPr/>
          <p:nvPr/>
        </p:nvSpPr>
        <p:spPr>
          <a:xfrm>
            <a:off x="554040" y="5589720"/>
            <a:ext cx="4162320" cy="369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0d20"/>
              </a:gs>
              <a:gs pos="50000">
                <a:srgbClr val="f71535"/>
              </a:gs>
              <a:gs pos="100000">
                <a:srgbClr val="960d20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ИЧ - инфекция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WordArt 17"/>
          <p:cNvSpPr txBox="1"/>
          <p:nvPr/>
        </p:nvSpPr>
        <p:spPr>
          <a:xfrm>
            <a:off x="6300720" y="3573360"/>
            <a:ext cx="238140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уберкулез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90720" y="432720"/>
            <a:ext cx="396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акторы, способству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ослаблению иммунной сист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0" descr="C:\Documents and Settings\Администратор\Мои документы\Мои рисунки\111эмблема.jpg"/>
          <p:cNvPicPr/>
          <p:nvPr/>
        </p:nvPicPr>
        <p:blipFill>
          <a:blip r:embed="rId3"/>
          <a:stretch/>
        </p:blipFill>
        <p:spPr>
          <a:xfrm>
            <a:off x="8028000" y="582300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ковы признаки туберкулёза?</a:t>
            </a:r>
            <a:r>
              <a:rPr b="1" lang="ru-RU" sz="2800" spc="-1" strike="noStrike">
                <a:solidFill>
                  <a:srgbClr val="02388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85d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10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143" name="Oval 11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Oval 13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793e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8793ed">
                  <a:alpha val="32156"/>
                </a:srgbClr>
              </a:gs>
              <a:gs pos="100000">
                <a:srgbClr val="3e446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15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495080"/>
              </a:gs>
              <a:gs pos="50000">
                <a:srgbClr val="8793ed"/>
              </a:gs>
              <a:gs pos="100000">
                <a:srgbClr val="495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16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565d97"/>
              </a:gs>
              <a:gs pos="100000">
                <a:srgbClr val="8793e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17"/>
          <p:cNvSpPr/>
          <p:nvPr/>
        </p:nvSpPr>
        <p:spPr>
          <a:xfrm>
            <a:off x="3835440" y="305748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8"/>
          <p:cNvSpPr/>
          <p:nvPr/>
        </p:nvSpPr>
        <p:spPr>
          <a:xfrm>
            <a:off x="3857760" y="307656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19"/>
          <p:cNvSpPr/>
          <p:nvPr/>
        </p:nvSpPr>
        <p:spPr>
          <a:xfrm>
            <a:off x="3875040" y="30862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20"/>
          <p:cNvSpPr/>
          <p:nvPr/>
        </p:nvSpPr>
        <p:spPr>
          <a:xfrm>
            <a:off x="3890880" y="310032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21"/>
          <p:cNvSpPr/>
          <p:nvPr/>
        </p:nvSpPr>
        <p:spPr>
          <a:xfrm>
            <a:off x="3971880" y="313704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3757680" y="36180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5719680" y="185580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нижение массы тел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1333800" y="185580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Кровохарканье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6633000" y="3422520"/>
            <a:ext cx="23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кашель боле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вух-трёх недель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5717880" y="520848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отеря аппетита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4643280" y="13413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одыш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8"/>
          <p:cNvSpPr/>
          <p:nvPr/>
        </p:nvSpPr>
        <p:spPr>
          <a:xfrm>
            <a:off x="435600" y="514656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боли в грудной клетк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29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162" name="Oval 30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31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Group 32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165" name="Oval 33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34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Group 35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168" name="Oval 36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37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Group 38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171" name="Oval 39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40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174" name="Oval 42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43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AutoShape 46"/>
          <p:cNvSpPr/>
          <p:nvPr/>
        </p:nvSpPr>
        <p:spPr>
          <a:xfrm rot="5400000">
            <a:off x="4176000" y="49046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47"/>
          <p:cNvGrpSpPr/>
          <p:nvPr/>
        </p:nvGrpSpPr>
        <p:grpSpPr>
          <a:xfrm>
            <a:off x="4370400" y="5487840"/>
            <a:ext cx="360360" cy="360360"/>
            <a:chOff x="4370400" y="5487840"/>
            <a:chExt cx="360360" cy="360360"/>
          </a:xfrm>
        </p:grpSpPr>
        <p:sp>
          <p:nvSpPr>
            <p:cNvPr id="178" name="Oval 48"/>
            <p:cNvSpPr/>
            <p:nvPr/>
          </p:nvSpPr>
          <p:spPr>
            <a:xfrm>
              <a:off x="4370400" y="5487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49"/>
            <p:cNvSpPr/>
            <p:nvPr/>
          </p:nvSpPr>
          <p:spPr>
            <a:xfrm>
              <a:off x="4386240" y="5518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Rectangle 50"/>
          <p:cNvSpPr/>
          <p:nvPr/>
        </p:nvSpPr>
        <p:spPr>
          <a:xfrm>
            <a:off x="4503960" y="5805000"/>
            <a:ext cx="33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ериодическое повыш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емпературы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51"/>
          <p:cNvSpPr/>
          <p:nvPr/>
        </p:nvSpPr>
        <p:spPr>
          <a:xfrm rot="16200000">
            <a:off x="4175640" y="24562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c0ebfb">
                  <a:alpha val="0"/>
                </a:srgbClr>
              </a:gs>
              <a:gs pos="100000">
                <a:srgbClr val="85d9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52"/>
          <p:cNvGrpSpPr/>
          <p:nvPr/>
        </p:nvGrpSpPr>
        <p:grpSpPr>
          <a:xfrm>
            <a:off x="4384800" y="1714680"/>
            <a:ext cx="360360" cy="360360"/>
            <a:chOff x="4384800" y="1714680"/>
            <a:chExt cx="360360" cy="360360"/>
          </a:xfrm>
        </p:grpSpPr>
        <p:sp>
          <p:nvSpPr>
            <p:cNvPr id="183" name="Oval 53"/>
            <p:cNvSpPr/>
            <p:nvPr/>
          </p:nvSpPr>
          <p:spPr>
            <a:xfrm>
              <a:off x="4384800" y="17146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54"/>
            <p:cNvSpPr/>
            <p:nvPr/>
          </p:nvSpPr>
          <p:spPr>
            <a:xfrm>
              <a:off x="4400640" y="17449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Rectangle 55"/>
          <p:cNvSpPr/>
          <p:nvPr/>
        </p:nvSpPr>
        <p:spPr>
          <a:xfrm>
            <a:off x="470160" y="3357360"/>
            <a:ext cx="216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общая слаб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недомога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из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томляемость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582300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9440" y="387720"/>
            <a:ext cx="549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КАК ОГРАДИТЬ СЕБЯ ОТ ЗАБОЛЕ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УБЕРКУЛЕЗ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Делайте все возможное для того, чтобы повысить защитные силы организма: хорошо питайтесь, регулярно занимайтесь спортом, больше бывайте на свежем воздухе, не курите, не злоупотребляйте алкого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Если вам приходится часто находиться в душных и непроветриваемых помещениях, постарайтесь, как можно чаще делать там влажную уборку и, по возможности, проветри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Обязательно кипятите купленное на рынке молоко, не ешьте сырые яйца и хорошо прожаривайте и проваривайте мяс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С 15–летнего возраста не реже одного раза в год проходите флюорографическое обследование. Особенно это касается лиц пожилого возраста и людей, часто болеющих простудами. Флюорография безвредна, а смертность от запущенных форм туберкулёза довольно высо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582300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04:56:28Z</dcterms:created>
  <dc:creator>Администратор</dc:creator>
  <dc:description/>
  <dc:language>en-US</dc:language>
  <cp:lastModifiedBy>Admin</cp:lastModifiedBy>
  <dcterms:modified xsi:type="dcterms:W3CDTF">2011-03-15T11:24:03Z</dcterms:modified>
  <cp:revision>8</cp:revision>
  <dc:subject/>
  <dc:title>Слайд 1</dc:title>
</cp:coreProperties>
</file>